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8.jpeg" ContentType="image/jpeg"/>
  <Override PartName="/ppt/media/image10.jpeg" ContentType="image/jpeg"/>
  <Override PartName="/ppt/media/image4.wmf" ContentType="image/x-wmf"/>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32BD3D-3D84-4261-861D-E924A8179B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500ED0-4F2C-4637-8DD1-CBE75C1F46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59AAD1-6C1A-4246-983A-C8A4E221DC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018F31-F4E9-48C9-AAA4-F2B33CB5F4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27691-8F80-46D3-A661-25E444FCD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D2E25-CD17-4E0C-8A48-B22F0EB55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0A99EE-4E3E-482E-8F8A-F064D10C6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56B1B7-2D22-43AE-BE8A-CC3A3D338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03BDA-7E21-403B-94F4-CB4FA545E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D658F-6055-4609-B5E0-6257010BD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DB59C-80C0-4C67-B59C-4E47F6D53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06B62-B6FD-4932-B4C2-90A12D59AA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39083950-D0C5-4A6E-8A2B-9F87B9BB05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4</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July 2007.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2"/>
          </p:nvPr>
        </p:nvSpPr>
        <p:spPr/>
        <p:txBody>
          <a:bodyPr/>
          <a:p>
            <a:fld id="{3D25F639-9E8B-4FA4-9C4E-9A2F62C4CE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6454A9-0C95-42CD-ACE9-D5562DBF4E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4245AD2-DC97-42A7-9521-688F1104A4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69D78B3-2B06-49CC-BBED-310349EE55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4E80CE1-528A-49D0-AEF6-C6E45F0EA7BB}"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EB9E980D-890C-4C4D-B426-BF0F2742D743}"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CF88D379-2494-4481-9C2F-60E2E302198D}"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BBACDAF-78C1-435A-8A26-16A33BF2C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39CF379-22A6-464C-B05F-C70AA5D28B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1D5E415-11B0-46A5-A286-FD94684DB1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ACFC673A-1AF3-4880-A1D4-EC536E03C4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3712207-ABCA-4AAA-8766-5733E8EF7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90AA6999-933E-44CC-9441-DD8951677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A158A205-92C1-4FA8-BEA3-41169D8BF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EC8C234-ED48-40C4-954E-DEB8D992B684}"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4B85D1D-6A30-46C8-AEB6-DA9D6C54F52F}"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8B82ED-A7E8-4DB3-A803-FBD650E97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DFF69725-9F60-487A-B37D-CE1371BA0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1CFA9F6-4FCC-4703-BDA1-E49F1E82E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EF4BD26-865F-4EF6-957D-FC4FD8A9D1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B6B29D03-4769-4DD7-91A2-37FEEB30C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3D772D0-A9E1-435F-97F1-5CBC5580B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8649346-0D40-4424-95EF-166928F561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552839F4-EAE8-49F8-A0B4-17B703A7D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9C06BE58-F576-43F7-8A59-D23E39A101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85974ED-1EB3-49FD-B4E9-B2E508E7B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264F048-F774-48EA-A6FA-A92D973957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65798C1-35C6-45DC-A2CE-29999340D0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F3EDAE3-1C34-4BA4-8CBE-8F082C318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E585765-2D67-40B9-AC48-19B8F319EE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5FC7B36-FE72-46EA-9A28-06D6451E767E}"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452A8B6-A603-42E1-8E25-9715FBE3C7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6B2CEFE-DF47-46D1-AC4C-30A108E72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23D30362-7D2F-496F-977D-22F3039D9A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60AE246-29CD-4967-98A0-76425AC1CB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89177DC-C064-441D-B23F-082A52303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66BE20D-F024-47A9-AEDB-EAD8B191EF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B6AA59F-3A75-4F25-9489-B9AF83B272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880ECD5-DA3E-4543-9B7F-FE003227F8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A98209E-6737-47FF-A776-C028792BDB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8ED5F46-5EB3-4B42-BB6C-2591AC59FB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18132D6-D190-4974-899D-2E09DC78F7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B615FFF-3EF9-49DB-B2DD-12E1D71CA3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AB2272A-8B3E-4904-9801-48A8BB5085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518C358-E8ED-4A07-8A50-BDF741EF1D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DF9B2E0-A671-41CF-BC62-EADE186FCA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36EFA6D-D749-427F-B31F-C923C29D89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FD654589-B060-4742-B599-522290C454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9A0CCC-1DC8-4D14-8C45-7C4E3116D9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6B0A3C4-99F7-4063-8CCA-F24AA0008A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8ACF1CF4-029B-4AA1-9551-06D977A0A3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FD6D6A12-207A-4AB6-9F58-9EF684ADFB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A1EB1E9-B7E3-4D11-A1BB-9ED41F732F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00CB59E-7635-455A-9FF9-10DEB79230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6D88E95-8171-4CC7-B9F9-0CACD1F8A7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1AF1247-A67A-4197-A62D-925C5EC1A9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CD207EF-463D-47F5-9F67-8F2B939663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6769FD4-E01A-44B6-9253-9252E43FDC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DB1415-39C9-4199-8B28-74CDBD63A6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461BEFDE-C875-4E11-8865-B17B15E640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3E8FCD1-3861-49D1-BE32-4CD927E214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2AB74393-25CE-49D5-9B75-AA13BE6656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B29C580C-47ED-4483-B460-337859A4FE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BB9A3FEC-73B7-4815-B065-FF6CA6AD31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7676D84-2695-44E7-9B42-5FE4E12212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8F364395-DC05-4A1E-9968-01020DBFBA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1BA6BF-9642-47EF-A08A-77B4D631C1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0541990-9A72-446E-8AFE-38FFE561A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EC936F68-0322-49C1-9E9D-8F27DCE20C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9A143A3-215C-4A74-AE06-15F0A8BE4218}"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7E487F7-7269-4FA8-86D4-28B228ADEB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A5D203F-5B8F-4244-AAED-F8AF7B8BAE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59E610-6737-4A0C-96D3-5D8F9586D8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4AD4AE5-B8C0-4F5E-9F37-6ADCFAB6304F}"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2A3741A1-0882-4CA7-AC88-BC124A1A07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6CCBB5-C334-4D11-A006-0A174F143F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1331CA-4D85-4739-B0C7-39489185BD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F9F67660-9C7B-48C2-AF9C-E7E574B25B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FE98EA48-BA6B-4F56-8D0E-43F72891D1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F444089F-C232-42CC-B415-79F3AB1A0D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37529C-6AD8-4BEA-99E9-761C365CFE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DA9C31A4-8951-4F3F-A69E-91EA626765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F7BAC59-BA90-4A6C-8520-5D45B0EE49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3E41A63D-841C-42F2-B62F-53A23C0DC5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BF22E724-9E3C-4743-81D3-B5D0862ED3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2F9437F-9520-4B1D-9B15-C64A0E2989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8D94572-39C8-4DB4-86B2-C207D239DD49}"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143AD7A8-A9E8-4DF0-84B2-D1D7C66B87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8D0ED23B-69B0-41E6-85D2-04DAFC9EF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E73F3EF2-A24F-43A0-9795-39F286AC76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BB302C9-D0FA-456B-AF6D-6FA6938EDB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D03139D-7CB9-4156-8F0A-8A2F4E17CD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36B5233-6738-4C47-868A-321A4A4766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BBB01F1-6811-48F1-BA77-7D9D52E2AF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F0295A4-DE37-4434-87C8-1AC0BDABBA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D1DB0F0-0C93-44A9-8698-26F8F9E18B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E87D9AE-7BBB-408D-A100-8A44540F023E}"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FE3B91B-18EF-49B7-8292-FF2325BB14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0101D1F-BBD4-4B18-B997-495070DEAB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C04CFD15-7184-4AA4-8A60-D20245034F2B}"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E860677-4F11-4C42-9812-986EBB855E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84BAA9C-AD0C-45F4-9944-FDE6325A05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2-06T13:26:39Z</cp:lastPrinted>
  <dcterms:modified xsi:type="dcterms:W3CDTF">2007-06-25T19:44:58Z</dcterms:modified>
  <cp:revision>189</cp:revision>
  <dc:subject/>
  <dc:title>Chapter 7</dc:title>
</cp:coreProperties>
</file>